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B70F-7E3B-4938-9811-723DEBE1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6703-F1C3-4AE7-AF8C-D156FCC7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BC7-F11E-43FB-B7AA-DE3AE127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36FE-D186-4DA9-985F-ED20C6D8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CF92-24BB-42EE-A1EA-7A9FB495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474D-1B55-4A5D-922E-EBCC047E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0874-EDBF-4FBF-B67B-BDE3D0D9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17A3-7024-4536-92DB-1A0F3DB6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17E1-62D9-4011-A1A1-6E6617E2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C11B-2670-4543-A739-0719CC66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A9CC-F0F9-4C09-AF3F-AD67A3CA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9BF-D77D-4459-AAD1-32880376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CF46-B679-440F-8CC5-CB6A552E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C0DC-5601-45D8-BFE8-96E3FAC3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DE8D-0C89-483B-A19A-A6349488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8E59-A490-42CA-A732-F196E4DD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D043-1B99-44F1-9054-586AF006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4AE-202A-41E0-BDA3-90B56534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18D-24C0-4FFD-B5DB-66C4354B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A41-C451-4C50-8619-827A69C4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455D-EE5C-4504-B995-1AAC0597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A18-9170-4104-BEAE-69551E03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31B-1799-4483-B360-B2DDD73C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19FB-8348-4B7C-8EFF-CFD8C366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88880"/>
            <a:ext cx="438120" cy="47484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888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14400"/>
            <a:ext cx="422280" cy="47484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9144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3808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808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21896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4985-57B1-430C-B82D-E89BB04AA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229600" y="6126120"/>
            <a:ext cx="900000" cy="73188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467480" y="6124680"/>
            <a:ext cx="76212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1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b7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4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e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7162-7507-461A-8B91-92FCAFF4083D}" type="slidenum">
              <a:rPr b="0" lang="en-US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hyperlink" Target="http://iubio.bio.indiana.edu/daphnia/" TargetMode="External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hyperlink" Target="http://iubio.bio.indiana.edu/daphnia/" TargetMode="External"/><Relationship Id="rId4" Type="http://schemas.openxmlformats.org/officeDocument/2006/relationships/hyperlink" Target="http://iubio.bio.indiana.edu/daphnia/" TargetMode="External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hyperlink" Target="http://iubio.bio.indiana.edu/daphnia/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hyperlink" Target="http://iubio.bio.indiana.edu/daphnia/" TargetMode="External"/><Relationship Id="rId4" Type="http://schemas.openxmlformats.org/officeDocument/2006/relationships/hyperlink" Target="http://iubio.bio.indiana.edu/daphnia/" TargetMode="External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hyperlink" Target="http://iubio.bio.indiana.edu/daphnia/" TargetMode="External"/><Relationship Id="rId4" Type="http://schemas.openxmlformats.org/officeDocument/2006/relationships/hyperlink" Target="http://iubio.bio.indiana.edu/daphnia/" TargetMode="External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hyperlink" Target="http://iubio.bio.indiana.edu/daphnia/" TargetMode="External"/><Relationship Id="rId7" Type="http://schemas.openxmlformats.org/officeDocument/2006/relationships/hyperlink" Target="http://iubio.bio.indiana.edu/daphnia/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Helvetica Neue"/>
              </a:rPr>
              <a:t>Argos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&amp; Genome Directories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pple Chancery"/>
              </a:rPr>
              <a:t>&amp; Lucegene (‘Lucy Jean’)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66"/>
                </a:solidFill>
                <a:latin typeface="Skia"/>
              </a:rPr>
              <a:t>A Replicable Genome infOrmation System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Skia"/>
              </a:rPr>
              <a:t>of Common Compon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300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Meeting, Sept.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5292720"/>
            <a:ext cx="2022480" cy="148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990800" y="5788080"/>
            <a:ext cx="1819080" cy="56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1600" y="5711760"/>
            <a:ext cx="716040" cy="689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038480" y="5626080"/>
            <a:ext cx="898560" cy="927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10160" y="48769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 Gilbert, 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5"/>
              </a:rPr>
              <a:t>gilbertd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6"/>
              </a:rPr>
              <a:t>@indiana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comparison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2680" y="1889280"/>
            <a:ext cx="849312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EM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install instructions - not hard, but harder than auto-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mBase, Grame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hat, MacOSX, other system package auto-upda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ata replication; mature; focused on system-level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us Grid package management, Pac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offers binary program replication; install on remote systems; more config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plication is immature (less useful than rsync, wget, ftp mirror) but includes direct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333000"/>
            <a:ext cx="715176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phnia Example Syste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1720" y="1593720"/>
            <a:ext cx="819792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FleaBase -- proto-Daphnia geno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gi-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Web programs(Pe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Link to common, shar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ite configurations for web,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Bulk data &amp; FTP site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roject databases: blast, lucene, my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Database ind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rogram libra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Web structure and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omics, Sequences, Maps, Literature, Stocks, Docs,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Public and Protected (project member only)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app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Web programs (Ja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Search system, Secure web and e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23440" cy="6400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45920" y="914400"/>
            <a:ext cx="453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3"/>
              </a:rPr>
              <a:t>iubio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4"/>
              </a:rPr>
              <a:t>.bio.indiana.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5"/>
              </a:rPr>
              <a:t>edu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6"/>
              </a:rPr>
              <a:t>/daph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 rot="16200000">
            <a:off x="-2019240" y="331452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LAST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90360"/>
            <a:ext cx="80010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239760"/>
            <a:ext cx="7229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dit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pple Chancery"/>
              </a:rPr>
              <a:t>Lucegene (‘Lucy Jean’)</a:t>
            </a:r>
            <a:br>
              <a:rPr sz="40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Genome Information Search and Retriev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64520" y="442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fo. Retrieval for Genom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 text search/retrieval tools tuned for data access, no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for a wide range of semi-structured and complex structured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functional match for textual data common in biology than numeric, table-oriented RD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to add new data (e.g. SRS parses 100s of existing bio-databan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8120" y="3429000"/>
          <a:ext cx="6095880" cy="286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429000"/>
                    <a:ext cx="60958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04920" y="3200400"/>
            <a:ext cx="2666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 by orders of magnitude at search of complex data (no table joins; data is extremel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n-nor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8640" y="3200400"/>
            <a:ext cx="284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osophila Genome Anno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S or GaDB relationa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Lucene and LuceGen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2680" y="1676160"/>
            <a:ext cx="849312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cene open-source project at jakarta.apache.org/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text search features: booleans, phrases, word stemming, fuzzy and field range searches, relevance 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able to Glimpse, Exite, WAIS, Isearch, ht/dig, Alta-vista, Google back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 Doug Cutting has written text search engines for Apple and Exc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ceGen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input adaptors for HTML; XML (e.g. MedLine); FlyBase flatfile; Biosequences (GenBank, EMBL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output formats for XML, HTML via XSLT, Text, Spread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d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,000s of FlyBase Genes, References, Game and Chado XML anno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Genes gene summaries &amp; Daphnia Medline, Sequences, HTML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ceGene/Lucen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ge search improvements (inefficient, dies w/ large r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s/joins among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adaptors and work? (or rely on data source format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1523880"/>
            <a:ext cx="4114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52480" y="152280"/>
            <a:ext cx="8291520" cy="65055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 rot="16200000">
            <a:off x="-2024280" y="3320280"/>
            <a:ext cx="5116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earch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 rot="16200000">
            <a:off x="-2024280" y="3320280"/>
            <a:ext cx="5116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earch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98360"/>
            <a:ext cx="810072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Focus on Genome Data Acces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211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cientists are data-mining to study 1000s of genes rather than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page scraping and bulk files not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Internet search &amp; retrieval of genome objects distributed among many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, flexible client program mode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for high volumes 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; &gt;1 GB siz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Genome Data Directories</a:t>
            </a:r>
            <a:br>
              <a:rPr sz="44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Data Grid and related Internet distributed search standar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726400" cy="5029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887440" y="1143000"/>
            <a:ext cx="28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elvetica Neue"/>
              </a:rPr>
              <a:t>(SRS - Lion Biosci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nstellation of Bio-Dat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ies of Genome Dat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ies are a necessary step for bio 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road and shallow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rectories feder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narrow and deep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-Data Acces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S, Sequence Retrieval System;  Entrez ;  AceDB; Genome relational databases (Ensembl, FlyBase, WormBase) ; IBM DiscoveryLink; BioDAS ; BioM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y services for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onto access tools for common query/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DA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ure, efficient for high volumes, query distributed directories ; works well with bio-acces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Servic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messages over Web ; wide industry support , standards are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Aspec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on existing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for millions of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distributed across directo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existing and new data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client program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, common schema fo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 directories among bioinformatics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-to-peer directories for 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authentication an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Compon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450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92200" y="4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Standard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Grid Services Architechture (OG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based; query support for XML-SQL, Xpath, Xque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cess project: http://www.ogsa-dai.org.u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weight Directory Access (LD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system for distributed search and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centric, optimized for efficient rea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, distributed and replicated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Sciences ID (LSID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tandard for bio-object naming, with LDAP and WebServices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y project web services reposi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d test distributed access with LDAP and Web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S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kend for efficient search/retrieval from GenBank, SwissProt/TrEMBL, LocusLink, Medline, man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&amp; fetch 20,000 to 1.2 million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AP is ~10x faster than Web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in progress for IUBio, FlyBas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8183" t="11766" r="8183" b="11766"/>
          <a:stretch/>
        </p:blipFill>
        <p:spPr>
          <a:xfrm>
            <a:off x="533520" y="1295280"/>
            <a:ext cx="7848360" cy="5543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42080" y="22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6464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78600" y="256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46880" y="165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198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16600" y="1166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7560" y="255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2427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86160" y="237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74400" y="1739880"/>
            <a:ext cx="828180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Web-Services and LDAP access working in testing form; not stable nor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-Data categorization, schema, and meta-data for directories ne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d (OGSA), OAI, other interfaces to be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2680" y="5105520"/>
            <a:ext cx="7352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ory tests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2"/>
              </a:rPr>
              <a:t>iubio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3"/>
              </a:rPr>
              <a:t>.bio.indiana.edu/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4"/>
              </a:rPr>
              <a:t>biogrid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5"/>
              </a:rPr>
              <a:t>/directo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Issu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g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framework for distributing common components with implemented genome data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uce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RS,… are backends to search &amp; retrieve data objects efficiently from any flat-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ome Directory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s WebServices, GridServices, LDAP, OAI,…  Internet standard interfaces to search back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hree building block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50428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install &amp; replication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common { fetch, compile, install, configure,…} loop for packages of software &amp;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tible with most GMOD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to EnsEMBL, WormBase, other distribut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Reference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mod.org/argos/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4"/>
              </a:rPr>
              <a:t>eugenes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5"/>
              </a:rPr>
              <a:t>.org/argos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6"/>
              </a:rPr>
              <a:t> 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http://flybase.net/flybase-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/ ; perl/ -- program libraries and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s/ -- major programs (BLAST, PostgreSQL, oth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/ -- OS executables of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phnia/, eugenes/, flybase/ -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plemented organism genome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aurbase/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- sample tes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s/  &amp; install/ -- Argos instructions and u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/  -- common directory of projects, each as virtual host web service in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common par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28480" y="1523880"/>
            <a:ext cx="807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on library, Ant builds, XML Tools,  Web Services (Axis), Lucene for “Google”-like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ommon library of BioPerl, GBrowse,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v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, Tomcat web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QL,  PostgreSQL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(NC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iled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werpc-darwin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parc-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1523880"/>
            <a:ext cx="4114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294840"/>
            <a:ext cx="7375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enome &amp; IT too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benefits of “best of breed” genom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parts are tested &amp; maintained by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IT expertise (no compiles or system man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ommo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-perl for Apache web server (&amp; Perl run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GMOD tools (Gbrowse; Cmap;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294840"/>
            <a:ext cx="7375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project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needs specify tool set (compare EnsEMBL all-in-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 look’n’feel web pages, contents,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with protected and public se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including collaborative editing, upd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package config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tegration of common &amp; project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294840"/>
            <a:ext cx="7375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replication to any Unix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’ copy with rsync keeps servers up-to-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cluster/grid for high-volume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on common workstations, lap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sync useless for Postgres updates; transa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click install &amp; docu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auto-update; need more post-upda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advanced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enome Directory compon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 need to search &amp; retrieve 1000s of ge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, computable, industry standards for distributed query &amp; retrieval of big da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b Services, Grid Services, LD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o update personal, lab databases with genome li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20:38:43Z</dcterms:created>
  <dc:creator>don gilbert</dc:creator>
  <dc:description/>
  <dc:language>en-US</dc:language>
  <cp:lastModifiedBy>don gilbert</cp:lastModifiedBy>
  <cp:lastPrinted>2003-09-07T02:43:01Z</cp:lastPrinted>
  <dcterms:modified xsi:type="dcterms:W3CDTF">2003-09-13T19:46:49Z</dcterms:modified>
  <cp:revision>47</cp:revision>
  <dc:subject/>
  <dc:title>wFleaBase in ARGOS</dc:title>
</cp:coreProperties>
</file>